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B0C-4107-49B5-A162-335CAF11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5DB-DBBC-4B28-A46A-D5574116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093-F2BF-41F7-BC92-AE31C0B4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05A-7F75-4BFC-A574-F3867D2C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F09-1BA1-4FAB-B0F8-537F0286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4C3-42DD-4161-98D0-0F8CB0E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78B-1810-41C9-9A6E-D42995C9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C72-5673-4B2D-8AC0-5F0B549D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F6A-C8B2-450B-A951-879ACE0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170-2CE3-48A2-97B5-A80430F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B28-009D-4CB2-917B-2F47E9C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9B8-209F-4D8B-9912-9F8D848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6B74-52E9-4542-A275-987CC561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a mess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7B9-ABD0-4D3F-9791-BF93A37670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nctional grammar and wor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als added as a catego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ne, two, thre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, you, he, etc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umed within 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r, sheep, happiness, Pa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48A-A757-4740-941A-68B73EE713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, dog,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rmingham, J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tract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, herself, who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ever, w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, this, t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0A8-5792-4736-8565-F7A1060C06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un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 stran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i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uld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ch hap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now; ve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ositional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ng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6D6-03BA-4284-9CC5-1EBE033F4D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tand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The shopper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vides supportiv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when the fire alarm r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D94-C68B-4CB5-B23C-784251C3BC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, P(V), O, C,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 to grammatical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catego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ubj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dicate (verb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5A7-486E-4A74-9F24-BD66DDDC48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, Verb, Object, Complement, Adju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 sentence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erhaps other elements following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elements are necessary to complete the structure of the sentence, they are call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pl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cluding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bjec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they are optional extras, giving circumstantial detail, they are called adjun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ng, David J. (CB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ing English Gramma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on, UK: Routledge, 1984. p 71. available: http://site.ebrary.com/lib/aston/Doc?id=10060832&amp;ppg=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1984.  Routledge. 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43F-37FF-448A-A556-7CBCF1577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638-D7CB-46C1-AC30-597757EB3E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C1B-F6DD-41AA-BDA8-2024B06E2A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ll-eyed nurse  came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 tri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781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789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E70-BCBA-4B8A-A1FE-2A2ABBA4B1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ten affects the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 were  glad to let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37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3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128-CCE3-46AA-9D10-A1A94300A3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arts of Spee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 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DD3-B1AA-41CA-BE21-F51A86182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6EB-E325-4857-9752-ACD3AC4176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041-D816-4CE7-A186-B9CD07CFFE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 different entity from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unclasped  my watc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0CE-807F-4C49-ACB8-AD59BFA592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ropped it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he started tweaking the hairpins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dragged out 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lled it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rse started swabbing my temples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5F4-4A59-44F2-A072-6B98BE1612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Identify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op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twea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agged o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ll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swabb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tem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7AD-A548-478C-B045-58E4161067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ses with both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ting on or affecting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= ‘doer’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= ‘done-to’ =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5B7-02E5-484C-BDDC-D835F1D444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6AD-35AB-41BC-801C-BD667CC70C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ose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at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able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my watch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els with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airpi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hine on it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the table on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8B9-CE4C-4CEC-984F-BF4617275E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ERB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dicator) is the essential element in any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lauses also requir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clauses also have a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r + action + done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C26-B4C9-4B39-9E54-7D9E739D8A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vs Passiv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weak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y w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hairpi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ere twea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52E-197F-43E3-846A-A75D4EBF71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Morp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1A2-8A35-4751-BEF1-3BD1ED45E4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E6D-A6C7-4E58-BED9-6911E98878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make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 was been  -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B97-19E1-4A2B-9694-D82CE3EE5C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quired by a small number of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E3F-8103-4010-8D32-8AC75F8DA5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he same entity a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or evaluate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only a few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sick about saying goodbye lik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‘equals sign tes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mad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592-9B76-4539-A7DF-2845720FD7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obligatory, the claus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can occur without either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they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train … the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arr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er not being willing to come home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verbs may be used either transitively or intransitiv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y’s tack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son’s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my bones w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EA1-3181-4C72-9C44-D708EE183B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0CF-C9E9-409E-9EA0-9E1ED49DA0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D7A-C556-40B1-BB69-5025E06F1B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(or clause co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, and then two men emerged from the path and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and then) two men emerged from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)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F87-4CAF-4A84-BDD0-8147B03EA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/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en emerg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the open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the green po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28E-9D83-4865-A191-D9FEA0BE84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–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6CB-A582-46E3-85AE-49402B6AB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LET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C09-387C-4AFF-AFE1-154E8D9FD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Word Classes: lexical or full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5A8-0B53-41C0-9C5D-765D3900D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 word classes: grammatical or empt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rs or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j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B1E-9FA2-4D0A-9C21-A106F1833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8:30Z</dcterms:created>
  <dc:creator>student</dc:creator>
  <dc:description/>
  <dc:language>en-US</dc:language>
  <cp:lastModifiedBy>fox</cp:lastModifiedBy>
  <dcterms:modified xsi:type="dcterms:W3CDTF">2009-02-12T10:56:25Z</dcterms:modified>
  <cp:revision>8</cp:revision>
  <dc:subject/>
  <dc:title>Parts of Speech and SPOCA</dc:title>
</cp:coreProperties>
</file>